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D713-D1B3-4026-BA7D-02AD9CD1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CE9A-2027-443B-9262-697E4E6D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6AB4-2B31-4780-927B-09D2378C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5C55-BAFC-4E7D-9560-43AED6CF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D579-380F-4D5E-AB2C-054D4CCB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35B3-FF37-4E79-82EB-F0C04F41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2436-E04B-4A6B-91A6-E4AD7D47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A433-D9CA-4848-8E71-1A98D666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BA4F-E784-4ED5-93DD-5A856EFE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1AEE-2A75-470E-9FAB-CED7467A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FE9F-CD77-4596-9B65-E93417C3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54F3-C7B4-42E9-84C5-E2E08BB4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1042-855E-480C-A9CB-DFA0E2B51F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ife of Christ, Part 2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st We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rter 10, Lesson 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 15:33-47, Matt.. 27:45-66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uke 23:44-56, John 19:28-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ges 179-18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r, We Would See Jesu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Jesus on the cross, 12 noon – 3 pm</a:t>
            </a:r>
            <a:br>
              <a:rPr sz="32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Mark 15:33-37, Matt. 27:45-50,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uke 23:44-46, John 19:28-30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our darkness came over the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cried out “Eli, Eli, lama sabachthani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Cor 5:21 For he hath made him to be sin for us, who knew no sin; that we might be made the righteousness of God in H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said “I am thirst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hecy was fulfill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They gave me also gall for my meat; and in my thirst they gave me vinegar to drink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cried out “It is finishe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Miracles accompanying the death of Christ</a:t>
            </a:r>
            <a:br>
              <a:rPr sz="32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Mark 15:38-41, Matt. 27:51-56,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uke 23:45, 47 - 49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il to the Most Holy Place was torn from top to bott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arth shook and rocks were spl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mbs were opened and many holy ones were rai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man centurion cried out “Truly this was the Son of Go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followers stood a long way off and watc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an had bruised His heel, but Christ would soon crush the head of Sat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burial of Jesus’ body in the tomb of Joseph of Arimathea </a:t>
            </a:r>
            <a:br>
              <a:rPr sz="32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Mark 15:42-46, Matt. 27:57-60,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uke 23:50-54, John 19:31-42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Jews asked Pilate to break the legs of the dying men to hasten their dea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oldier thrust his spear into Jesus’ side; blood and water came gushing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seph of Arimathea went to Pilate and asked for Jesus’ body that he might bury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odemus brought spices as he came to help bury Je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omb was carved in stone with a great stone for a d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watch over the sabbath</a:t>
            </a:r>
            <a:br>
              <a:rPr sz="32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Mark 15:47, Matt. 27:61-66,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uke 23:55-56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y Magdalene and Mary the mother of Joses observed the bu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hopes were buried with Jesus although He predicted His resur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risees asked Pilate to secure the to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s anticipated that His disciples might steal the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evidence that such an idea even occurred to His disci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21:39:45Z</dcterms:created>
  <dc:creator>Ray Cooley</dc:creator>
  <dc:description/>
  <dc:language>en-US</dc:language>
  <cp:lastModifiedBy>Ray Cooley</cp:lastModifiedBy>
  <dcterms:modified xsi:type="dcterms:W3CDTF">2006-09-08T17:17:58Z</dcterms:modified>
  <cp:revision>39</cp:revision>
  <dc:subject/>
  <dc:title>Life of Christ, Part 2 In Perea</dc:title>
</cp:coreProperties>
</file>